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E71-95F3-45D8-A326-27968051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F6F-A47D-41F7-A2BE-84BC649A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1A0-222F-48B8-904E-5EA1E8C9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760-A092-4D59-AC2D-B35DD07B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827-815C-492B-8CE8-0E381E8D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9F4-1B44-403F-B155-BD629B05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2F8-76CD-4A09-BE75-213EAAB4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1B2-ECF2-482C-8986-2BFE7E2A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48D-F42C-4CEF-8CC4-BF7FD0EB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4AF-D4D5-4C67-B19A-1B1FE04D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073-F439-46CF-883E-E1B04ED7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500-6393-42ED-93AE-7A7F4CE4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3C0F-6A76-4F31-BBD6-3B3B72284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hyperlink" Target="http://au.wrs.yahoo.com/_ylt=A0S0zu_mDa1MoFAA9xQW5gt./SIG=12p0v09tu/EXP=1286496102/**http%3A//www.headquartersmagazine.com/wwwhq/downloads/images/sydney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ulticultural 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den Du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yden dunn 7\10\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64320" y="-72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 is a young woman from Sudanese background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16995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s arrived on her own and her family is still in refugee camps in Keny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46880" y="54864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22 and lives by her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19640" y="220464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s never lived in a city, but has caught on quickly working out public transpo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71240" y="1196280"/>
            <a:ext cx="45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nts to learn how the system 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0" y="3141000"/>
            <a:ext cx="85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s to keep improving her English and doesn’t know what work she wants to 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357336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l isolated and isn’t actively involved with the Sudanese community though she would like to 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404640"/>
            <a:ext cx="2124000" cy="230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50920" y="4797360"/>
            <a:ext cx="2374920" cy="1514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Image Preview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80000" y="4421160"/>
            <a:ext cx="3240000" cy="243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yden dunn 7\10\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600"/>
                            </p:stCondLst>
                            <p:childTnLst>
                              <p:par>
                                <p:cTn id="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6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60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76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27640" y="3068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y has just moved to a new suburb and was a teacher for y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36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lonely and doesn’t know anyone in the local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4560" y="4755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s health needs and wants to stay in touch with her children who live in another state but doesn’t know how to use a compu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528880"/>
            <a:ext cx="46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feeling depressed about her life and feels like there is no purpose in her life anym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81360" y="1483560"/>
            <a:ext cx="78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around her is young and participating in life and she feels in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3024360" cy="1700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948360" y="4149720"/>
            <a:ext cx="200520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51280" y="1989000"/>
            <a:ext cx="1884240" cy="187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yden dunn 7\10\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75960" y="188280"/>
            <a:ext cx="50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ka is 15 and has been to six different schoo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21612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smart but he is bored by school and becomes disruptive in class and asked to lea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10519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hanging out at the youth centre and wants to learn but he doesn’t know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01040" y="1843920"/>
            <a:ext cx="63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loves music and singing and often sings at family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200" y="4436280"/>
            <a:ext cx="83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mother is worried that he will never get a job because he didn’t finish scho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1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sn’t told her that he can’t read or write and mask his literacy issue by getting himself taken out of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08360" cy="1843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2374920" cy="1781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140360" y="2421000"/>
            <a:ext cx="2447640" cy="163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696080" y="4797360"/>
            <a:ext cx="881280" cy="136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yden dunn 7\10\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2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295 E">
                                      <p:cBhvr>
                                        <p:cTn id="22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550"/>
                            </p:stCondLst>
                            <p:childTnLst>
                              <p:par>
                                <p:cTn id="2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600"/>
                            </p:stCondLst>
                            <p:childTnLst>
                              <p:par>
                                <p:cTn id="2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9450"/>
                            </p:stCondLst>
                            <p:childTnLst>
                              <p:par>
                                <p:cTn id="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2350"/>
                            </p:stCondLst>
                            <p:childTnLst>
                              <p:par>
                                <p:cTn id="2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6050"/>
                            </p:stCondLst>
                            <p:childTnLst>
                              <p:par>
                                <p:cTn id="2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23:43:09Z</dcterms:created>
  <dc:creator>RAC</dc:creator>
  <dc:description/>
  <dc:language>en-US</dc:language>
  <cp:lastModifiedBy>RAC</cp:lastModifiedBy>
  <dcterms:modified xsi:type="dcterms:W3CDTF">2010-10-07T00:50:22Z</dcterms:modified>
  <cp:revision>2</cp:revision>
  <dc:subject/>
  <dc:title>Multicultural Australia</dc:title>
</cp:coreProperties>
</file>